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64652"/>
        <c:axId val="63936420"/>
      </c:barChart>
      <c:catAx>
        <c:axId val="55164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36420"/>
        <c:crosses val="autoZero"/>
        <c:auto val="1"/>
        <c:lblAlgn val="ctr"/>
        <c:lblOffset val="100"/>
        <c:noMultiLvlLbl val="0"/>
      </c:catAx>
      <c:valAx>
        <c:axId val="63936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64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03DC-0BAB-47F1-BE97-7D25B8CC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996-FC2D-4A93-A18D-587E0F82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17CC-6E7A-4F8E-9D37-AB9016FF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DFB-7A23-4529-AF0E-5C797A4E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744-2BFB-4AA2-A7E9-A0CEFADD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4D32-0192-43E2-851B-943BBFED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5B1-4706-4D6B-8EF6-DB939281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4B7-7637-46CC-943E-E69A0783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9AB-80A9-42EE-B7A7-E2D00C96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DE9-9959-438C-A5A8-67CB4A98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1F1-8A1C-4420-B67D-46839183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B65-8C6D-48B1-821F-1EFADC70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620AE-C280-4AC1-A1CE-D9741FB02E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