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43501"/>
        <c:axId val="57800268"/>
      </c:barChart>
      <c:catAx>
        <c:axId val="61443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00268"/>
        <c:crosses val="autoZero"/>
        <c:auto val="1"/>
        <c:lblAlgn val="ctr"/>
        <c:lblOffset val="100"/>
        <c:noMultiLvlLbl val="0"/>
      </c:catAx>
      <c:valAx>
        <c:axId val="57800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43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507-AA86-4808-8899-6CF6FA6C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FAB-AFA9-48CC-BEE5-129BA2EC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4F69-676F-417C-9994-60C9330D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A9D-CE3D-4DB2-9740-35BFB81A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88F-783F-4F57-A31C-D54FDA0A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FB8-8C28-4BD3-B53A-34D9EC8B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174-AB06-403E-90EB-10F9F858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635-7CBD-4E56-AE9D-277DC2F5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DA5-42CF-4866-900F-4DBA92F0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ADB-2742-4D99-86E5-9FC49DC0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298-34B8-4018-A3B8-6909DDC5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AE8-6348-4AAA-A1EC-A64346C9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AC0D9-1B0A-4170-B8CD-4F15D34AF4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